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DEA-17D2-408C-8785-E31A5D19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543-FA75-4B07-AE0B-81BF2044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D93-CE64-4DF9-A156-4501775D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309-290A-4899-A3E3-8078AB67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05A5-101B-44B8-8202-CA1008CC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444B-76A9-44E4-9CBF-B802E2CC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EA5D-9919-4A39-92C5-5AB91BA1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7FD2-B539-43B7-82F3-DDAD34E8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09E3-B021-46E1-A247-A3683C72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8D0E-DFE5-48FA-999A-405D60A6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6239-FEB3-4DDB-B578-8F5F5E04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A09-5F97-41C7-9620-3AC1321C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5B52-17E4-41E4-85FE-755A9A44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9050-4363-46CA-B993-B214D27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8925-B24B-43A8-B7D1-A3BE86D4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2165-11DE-43EE-8C42-7AB300A5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3833-1B14-42DE-80F6-7417E050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EFD-D2D0-4496-B101-F29614A2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AD8-3809-43EC-BA2F-330F0938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93A-DCA4-454A-A2FA-A64851AD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134-E90A-4B11-AD6C-4D81313D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B3F-3144-4C80-A982-53E2C587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836-DDD7-477F-8568-3636494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188-509C-4BEC-AC16-C7A81978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17DC-F1C1-45DF-872E-68623531CB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1DCD-1B71-493A-8BFB-135B943DEF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hunya.net/Pictures/NorthIndia/Delhi/Museum/KushanCourtesan.jpg&amp;imgrefurl=http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aramond"/>
              </a:rPr>
              <a:t>Chapter 9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, Society, and the Quest for Salvation in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9BE0-C8D7-4F0C-BF61-E5613837BDC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gional Kingdom: Kusha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thern India/Central As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1-300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ained silk road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353040" cy="317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1905120" cy="32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D62-1159-4248-BEBA-8EABAC66A0F3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Gupta Dynas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in Magadh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ed by Chandra Gupta (no relation to Chandragupta Maurya), c. 320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smaller than Mauryan Emp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decentralized leader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95680" y="4419720"/>
            <a:ext cx="38102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D4C-6B97-4EB3-AD8E-14FADC8FD5C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upta Trade: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upta era is a time of prosperity due to the succession of powerful and efficient k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de was predominantly managed or regulated by the government such as:   mines and crown lan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rned staggering profits in commercial dealings: location, location, locatio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rge  private sector also exis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ey economy (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. BCE) copper and gold leads to banking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rter still a common practi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E3E-E1C2-41A2-92D9-F1DABD64BB97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upta Declin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 invasions of White Huns, 5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pta Dynasty disintegrates along regional fault l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local kingdoms dominate until Mughal Empire founded in 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334120"/>
            <a:ext cx="5121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http://images.google.ca/imgres?imgurl=http://</a:t>
            </a:r>
            <a:r>
              <a:rPr b="0" lang="en-US" sz="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Artifact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://www.shunya.net/Pictures/NorthIndia/Delhi/Museum/NationalMuseum.htm&amp;usg=__slfE0yJCETiWfcyV-z-q9YRPo_k=&amp;h=900&amp;w=703&amp;sz=149&amp;hl=en&amp;start=3&amp;tbnid=lmVBn1XcZiPlBM:&amp;tbnh=146&amp;tbnw=114&amp;prev=/images%3Fq%3DKushan%26gbv%3D2%26hl%3Den%26client%3Dfirefox-a%26rls%3Dorg.mozilla:en-US:official%26sa%3D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8E0-A05A-4B2F-AFF8-DB85D34E6064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conomy: Towns and Manufacturi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factured goods in big dem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d in dense network of small worksho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intense, capitalizes on trade routes across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E52-1227-4B81-B1EB-D6FD0463CF79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Long-Distance Trad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an connection since Cyrus, Dari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ive road-building projects under Persian ru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ander extends trade west to Maced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routes through Kush mountains, the silk roa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2D9-022B-46E1-98EA-2AC558924116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rade in the Indian Ocean Basi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asonal sea trade expan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ing/winter winds blow from south-west, fall/winter winds blow from north-w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from Asia to Persian Gulf and Red Sea, Mediterrane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42FC-6457-48E9-B874-C9B2DF4DD1A9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ety: Gender Rela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riarchy entrench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 marriage common (8 year old girls married to men in 20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men encouraged to remain in private sphe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92D-B520-46D8-89F2-65790306459B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Orde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te system from Aryan ti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hmins (pries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shatriyas (warriors, aristocra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ishyas (Peasants, merchan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udras (serf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181240"/>
            <a:ext cx="4038480" cy="33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B82-27F3-4086-A7A5-2E1A8A250AC8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astes and Guild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ing economic diversification challenges simplistic caste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tis formed: guilds that acted as sub-cas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d social or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castes” forced into low-status employ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273-832E-4502-B417-C4C6D4EFAA4A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The Mauryan and Gupta empires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321 B.C.E.-550 C.E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8640" y="1600200"/>
            <a:ext cx="768672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25E-9220-4B21-A1ED-C0AA372444A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ealth and the Social Orde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ward social mobility possible for Vaishyas, Shudr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lth challenges varna for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29D-7EB8-42F2-8DE5-043FA01CF6E7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ligions of Salvation in Classical Indi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change generated resentment of caste privili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Brahmins free from tax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5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BCE new religions and philosophies challenge status qu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vakas: athe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inists, Buddh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D80-B1DE-4164-A25E-A3D6D128EBAD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Jain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dhamana Mahavira, 540-468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andoned privileged family to lead ascetic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s 7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movement based on Upanisha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selfless living, concern for all be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DE5-BC21-403D-8736-5B75E3816BE3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hims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 of extreme non-viole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inists sweep earth, strain water, use slow movements to avoid killing ins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imsa continues to inspire modern movements (Ghandi, Martin Luther King Jr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7A0-B37C-4D24-A6DF-94DA7EC7EC03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ppeal of Jain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jected caste, jati distin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vious appeal to underprivileged grou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asceticism too extreme to become a mass mov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06E-8E1E-42CA-8703-298AEDA08B60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arly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dhartha Gautama, c. 563-483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ountered age, sickness, death, then monastic lif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andoned comfortable life to become a mon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558-1555-49A8-8A09-FFF0B4CF3B9F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autama’s Search for Enlightenmen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se meditation, extreme ascetic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 days of meditation under bo tree to finally achieve enlighten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ined title Buddha: “the enlightened one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4A7-F3F7-4A63-B6BA-AC160449228B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Buddha and his Follower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s teaching new doctrine c. 528 B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lowers owned only robes, food bow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e of wandering, begging, medit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ment of monastic commun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FED-1B6C-4409-985B-2E51F71EDDCE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uddha and his Discipl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5600" y="1600200"/>
            <a:ext cx="57528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D88-0889-403D-AC0C-0FB549CAE1E1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uddhist Doctrine: The Dharm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ur Noble Truth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life is suff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n end to suff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ing desire removes suff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may be done through the eight-fold 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ight views, intention, speech, action, livelihood, effort, mindfulness, concent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BE4-2B63-45B9-991F-1CD92C3B591E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ia Before the Mauryan Dynas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20 BCE Persian Emperor Darius conquers north-west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s Persian ruling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7 Alexander of Macedon destroys Persian Empire i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ops mutiny, departs after 2 yea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tical power vacu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E46D-538F-4293-B8F3-727DD5AB86F0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ppeal of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s dependence on Brahmins for ritual activ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gnition of caste, jati stat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ilosophy of moderate consump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service through lay teach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vernacular, not Sanskr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65B-B261-408B-999D-FB3C6DFF4EED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 Buddhist Monaste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95600" y="1600200"/>
            <a:ext cx="57528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231-FFF9-4637-B5EC-666A37FDFEFC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shoka’s Support of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nal conversion to Buddh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illusioned after violent war  with Kaling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ned animal sacrifices, mandated vegetarianism in cou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 support for Buddhist institutions, missionary activ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666-33D6-4478-AEE4-AE9CBB4F7D4D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anges in Buddhist though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BCE – 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.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a considered div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tion of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ddhisatvas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“saints”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itable donations to monasteries regarded as pious activ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CEC-6496-439B-A66C-C919DC5695CC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pread of Mahayana Buddh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hayana (“greater vehicle”), newer development – competed with the concept of salvation (good work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a seen as religious figure creation of relig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a, China, Japan, Korea, central As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nayana (“lesser vehicle,” also Theravada), earlier version – traditional, considered for the wealthy (personal behavior – a philosoph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ylon, Burma, Thail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0E8-0D8D-4359-9051-1893A9305811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aland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hist Monaste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si-university: Buddhism, Hindu texts, philosophy, astronomy, medic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ak at end of Gupta dynas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d spread Indian thou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mathematical number zer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00A-FD5D-4437-9EFA-4C1F5C8400F0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Emergence of Popular Hindu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sition of epics from older oral tradi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habhar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may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god Vishnu and his incarn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45F-524C-42D7-B229-09D9BC7D5A62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aramond"/>
              </a:rPr>
              <a:t>Bhagavad Gi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g of the Lord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uries of revisions, final form c. 400 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ue between Arjuna and Krishna during civil w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3AF-44B6-448D-BCC7-0D3423251613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Hindu Ethic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hasis on meeting class obligations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harm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suit of economic well-being and honesty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h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joyment of social, physical and sexual pleasure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m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vation of the soul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ksh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7116-B00A-482D-85AB-D386C95066D0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rity of Hinduis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dually replaced Buddhism i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pta dynastic leaders extend considerable sup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A14-FABA-4F93-817D-7F36F3814FA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Kingdom of Magadh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ignificant remaining kingdom after Alexander’s depar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 Ganges pl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streng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e in Ganges valley, Bay of Ben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inated surrounding regions in north-easter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F62-AFE1-4448-942F-96A919EBD7E0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ia and Isla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lamic introduction into India in the 8</a:t>
            </a:r>
            <a:r>
              <a:rPr b="0" lang="en-US" sz="3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C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dian pirates/Apology/ Iraq/Sind 711 – then to Punjab Pg. 24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wave of Islam due to Turkic speaking people – Mahmud of Ghazni (map pg 243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hmud = a strong ruler but turned off Hindu followers losing a lot of wealth in the proc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185-B40A-422F-9491-D85377A63FE7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India and Islam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en-US" sz="38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 C – 1200’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uslims held power in the form of Delhi sultan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nds over Norther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esn’t immediately gain control over Deccan Plateau and surrounding area as they are fighting the Mongols under the rule of Genghis Kah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1320 – 1413 Sultanates in power until the rise of Tamerlane a Mongol khan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MARTPenAnnotation0"/>
          <p:cNvSpPr/>
          <p:nvPr/>
        </p:nvSpPr>
        <p:spPr>
          <a:xfrm>
            <a:off x="6589800" y="2170080"/>
            <a:ext cx="760320" cy="55440"/>
          </a:xfrm>
          <a:custGeom>
            <a:avLst/>
            <a:gdLst/>
            <a:ahLst/>
            <a:rect l="l" t="t" r="r" b="b"/>
            <a:pathLst>
              <a:path w="479" h="35">
                <a:moveTo>
                  <a:pt x="0" y="17"/>
                </a:moveTo>
                <a:lnTo>
                  <a:pt x="10" y="17"/>
                </a:lnTo>
                <a:lnTo>
                  <a:pt x="12" y="16"/>
                </a:lnTo>
                <a:lnTo>
                  <a:pt x="14" y="15"/>
                </a:lnTo>
                <a:lnTo>
                  <a:pt x="17" y="14"/>
                </a:lnTo>
                <a:lnTo>
                  <a:pt x="20" y="13"/>
                </a:lnTo>
                <a:lnTo>
                  <a:pt x="27" y="12"/>
                </a:lnTo>
                <a:lnTo>
                  <a:pt x="35" y="11"/>
                </a:lnTo>
                <a:lnTo>
                  <a:pt x="38" y="11"/>
                </a:lnTo>
                <a:lnTo>
                  <a:pt x="43" y="10"/>
                </a:lnTo>
                <a:lnTo>
                  <a:pt x="47" y="8"/>
                </a:lnTo>
                <a:lnTo>
                  <a:pt x="52" y="7"/>
                </a:lnTo>
                <a:lnTo>
                  <a:pt x="60" y="6"/>
                </a:lnTo>
                <a:lnTo>
                  <a:pt x="71" y="6"/>
                </a:lnTo>
                <a:lnTo>
                  <a:pt x="84" y="5"/>
                </a:lnTo>
                <a:lnTo>
                  <a:pt x="90" y="4"/>
                </a:lnTo>
                <a:lnTo>
                  <a:pt x="95" y="3"/>
                </a:lnTo>
                <a:lnTo>
                  <a:pt x="102" y="2"/>
                </a:lnTo>
                <a:lnTo>
                  <a:pt x="116" y="1"/>
                </a:lnTo>
                <a:lnTo>
                  <a:pt x="132" y="0"/>
                </a:lnTo>
                <a:lnTo>
                  <a:pt x="168" y="0"/>
                </a:lnTo>
                <a:lnTo>
                  <a:pt x="176" y="1"/>
                </a:lnTo>
                <a:lnTo>
                  <a:pt x="184" y="2"/>
                </a:lnTo>
                <a:lnTo>
                  <a:pt x="192" y="3"/>
                </a:lnTo>
                <a:lnTo>
                  <a:pt x="201" y="4"/>
                </a:lnTo>
                <a:lnTo>
                  <a:pt x="210" y="4"/>
                </a:lnTo>
                <a:lnTo>
                  <a:pt x="219" y="5"/>
                </a:lnTo>
                <a:lnTo>
                  <a:pt x="237" y="5"/>
                </a:lnTo>
                <a:lnTo>
                  <a:pt x="246" y="5"/>
                </a:lnTo>
                <a:lnTo>
                  <a:pt x="255" y="6"/>
                </a:lnTo>
                <a:lnTo>
                  <a:pt x="265" y="7"/>
                </a:lnTo>
                <a:lnTo>
                  <a:pt x="274" y="8"/>
                </a:lnTo>
                <a:lnTo>
                  <a:pt x="283" y="9"/>
                </a:lnTo>
                <a:lnTo>
                  <a:pt x="291" y="10"/>
                </a:lnTo>
                <a:lnTo>
                  <a:pt x="299" y="10"/>
                </a:lnTo>
                <a:lnTo>
                  <a:pt x="308" y="11"/>
                </a:lnTo>
                <a:lnTo>
                  <a:pt x="316" y="12"/>
                </a:lnTo>
                <a:lnTo>
                  <a:pt x="325" y="14"/>
                </a:lnTo>
                <a:lnTo>
                  <a:pt x="335" y="15"/>
                </a:lnTo>
                <a:lnTo>
                  <a:pt x="344" y="15"/>
                </a:lnTo>
                <a:lnTo>
                  <a:pt x="353" y="16"/>
                </a:lnTo>
                <a:lnTo>
                  <a:pt x="362" y="17"/>
                </a:lnTo>
                <a:lnTo>
                  <a:pt x="370" y="18"/>
                </a:lnTo>
                <a:lnTo>
                  <a:pt x="378" y="19"/>
                </a:lnTo>
                <a:lnTo>
                  <a:pt x="386" y="20"/>
                </a:lnTo>
                <a:lnTo>
                  <a:pt x="394" y="21"/>
                </a:lnTo>
                <a:lnTo>
                  <a:pt x="401" y="22"/>
                </a:lnTo>
                <a:lnTo>
                  <a:pt x="409" y="22"/>
                </a:lnTo>
                <a:lnTo>
                  <a:pt x="416" y="24"/>
                </a:lnTo>
                <a:lnTo>
                  <a:pt x="424" y="25"/>
                </a:lnTo>
                <a:lnTo>
                  <a:pt x="431" y="26"/>
                </a:lnTo>
                <a:lnTo>
                  <a:pt x="437" y="27"/>
                </a:lnTo>
                <a:lnTo>
                  <a:pt x="443" y="27"/>
                </a:lnTo>
                <a:lnTo>
                  <a:pt x="449" y="28"/>
                </a:lnTo>
                <a:lnTo>
                  <a:pt x="455" y="29"/>
                </a:lnTo>
                <a:lnTo>
                  <a:pt x="461" y="31"/>
                </a:lnTo>
                <a:lnTo>
                  <a:pt x="466" y="32"/>
                </a:lnTo>
                <a:lnTo>
                  <a:pt x="469" y="32"/>
                </a:lnTo>
                <a:lnTo>
                  <a:pt x="478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MARTPenAnnotation1"/>
          <p:cNvSpPr/>
          <p:nvPr/>
        </p:nvSpPr>
        <p:spPr>
          <a:xfrm>
            <a:off x="847800" y="2625840"/>
            <a:ext cx="1636560" cy="55440"/>
          </a:xfrm>
          <a:custGeom>
            <a:avLst/>
            <a:gdLst/>
            <a:ahLst/>
            <a:rect l="l" t="t" r="r" b="b"/>
            <a:pathLst>
              <a:path w="1031" h="35">
                <a:moveTo>
                  <a:pt x="1030" y="17"/>
                </a:moveTo>
                <a:lnTo>
                  <a:pt x="1017" y="17"/>
                </a:lnTo>
                <a:lnTo>
                  <a:pt x="1013" y="16"/>
                </a:lnTo>
                <a:lnTo>
                  <a:pt x="1009" y="15"/>
                </a:lnTo>
                <a:lnTo>
                  <a:pt x="1005" y="14"/>
                </a:lnTo>
                <a:lnTo>
                  <a:pt x="1001" y="13"/>
                </a:lnTo>
                <a:lnTo>
                  <a:pt x="993" y="12"/>
                </a:lnTo>
                <a:lnTo>
                  <a:pt x="963" y="11"/>
                </a:lnTo>
                <a:lnTo>
                  <a:pt x="934" y="10"/>
                </a:lnTo>
                <a:lnTo>
                  <a:pt x="927" y="9"/>
                </a:lnTo>
                <a:lnTo>
                  <a:pt x="920" y="8"/>
                </a:lnTo>
                <a:lnTo>
                  <a:pt x="913" y="7"/>
                </a:lnTo>
                <a:lnTo>
                  <a:pt x="898" y="6"/>
                </a:lnTo>
                <a:lnTo>
                  <a:pt x="868" y="6"/>
                </a:lnTo>
                <a:lnTo>
                  <a:pt x="846" y="5"/>
                </a:lnTo>
                <a:lnTo>
                  <a:pt x="838" y="4"/>
                </a:lnTo>
                <a:lnTo>
                  <a:pt x="831" y="2"/>
                </a:lnTo>
                <a:lnTo>
                  <a:pt x="823" y="2"/>
                </a:lnTo>
                <a:lnTo>
                  <a:pt x="806" y="1"/>
                </a:lnTo>
                <a:lnTo>
                  <a:pt x="781" y="0"/>
                </a:lnTo>
                <a:lnTo>
                  <a:pt x="535" y="0"/>
                </a:lnTo>
                <a:lnTo>
                  <a:pt x="523" y="0"/>
                </a:lnTo>
                <a:lnTo>
                  <a:pt x="512" y="1"/>
                </a:lnTo>
                <a:lnTo>
                  <a:pt x="501" y="3"/>
                </a:lnTo>
                <a:lnTo>
                  <a:pt x="490" y="4"/>
                </a:lnTo>
                <a:lnTo>
                  <a:pt x="467" y="5"/>
                </a:lnTo>
                <a:lnTo>
                  <a:pt x="455" y="5"/>
                </a:lnTo>
                <a:lnTo>
                  <a:pt x="443" y="7"/>
                </a:lnTo>
                <a:lnTo>
                  <a:pt x="431" y="8"/>
                </a:lnTo>
                <a:lnTo>
                  <a:pt x="418" y="9"/>
                </a:lnTo>
                <a:lnTo>
                  <a:pt x="407" y="10"/>
                </a:lnTo>
                <a:lnTo>
                  <a:pt x="383" y="10"/>
                </a:lnTo>
                <a:lnTo>
                  <a:pt x="361" y="11"/>
                </a:lnTo>
                <a:lnTo>
                  <a:pt x="349" y="11"/>
                </a:lnTo>
                <a:lnTo>
                  <a:pt x="338" y="13"/>
                </a:lnTo>
                <a:lnTo>
                  <a:pt x="327" y="14"/>
                </a:lnTo>
                <a:lnTo>
                  <a:pt x="316" y="15"/>
                </a:lnTo>
                <a:lnTo>
                  <a:pt x="296" y="16"/>
                </a:lnTo>
                <a:lnTo>
                  <a:pt x="264" y="16"/>
                </a:lnTo>
                <a:lnTo>
                  <a:pt x="197" y="17"/>
                </a:lnTo>
                <a:lnTo>
                  <a:pt x="187" y="17"/>
                </a:lnTo>
                <a:lnTo>
                  <a:pt x="176" y="18"/>
                </a:lnTo>
                <a:lnTo>
                  <a:pt x="166" y="20"/>
                </a:lnTo>
                <a:lnTo>
                  <a:pt x="157" y="20"/>
                </a:lnTo>
                <a:lnTo>
                  <a:pt x="138" y="21"/>
                </a:lnTo>
                <a:lnTo>
                  <a:pt x="109" y="22"/>
                </a:lnTo>
                <a:lnTo>
                  <a:pt x="100" y="23"/>
                </a:lnTo>
                <a:lnTo>
                  <a:pt x="92" y="24"/>
                </a:lnTo>
                <a:lnTo>
                  <a:pt x="84" y="25"/>
                </a:lnTo>
                <a:lnTo>
                  <a:pt x="76" y="26"/>
                </a:lnTo>
                <a:lnTo>
                  <a:pt x="61" y="27"/>
                </a:lnTo>
                <a:lnTo>
                  <a:pt x="53" y="28"/>
                </a:lnTo>
                <a:lnTo>
                  <a:pt x="46" y="29"/>
                </a:lnTo>
                <a:lnTo>
                  <a:pt x="38" y="31"/>
                </a:lnTo>
                <a:lnTo>
                  <a:pt x="31" y="32"/>
                </a:lnTo>
                <a:lnTo>
                  <a:pt x="25" y="32"/>
                </a:lnTo>
                <a:lnTo>
                  <a:pt x="10" y="33"/>
                </a:lnTo>
                <a:lnTo>
                  <a:pt x="0" y="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B7F-5E12-4C5F-9FE8-3BA176E8F68F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slam and Indian Societ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induism tolerated; however, non-Muslims paid a tax (common practice in other locations as wel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ignment: Briefly do a Venn Diagram comparing Islam to Hindui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44CC-3E39-4554-8DD4-EB8BDCADAE21}" type="slidenum">
              <a:t>42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andragupta Maury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k advantage of power vacuum left by Alexand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threw Magadha rul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ed kingdom to create 1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nified Indian emp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uryan Dynas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C80-26C8-4540-8DBC-F47E551B45FE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andragupta’s Governmen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or Kautaly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ed in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hashastr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anual of political statecraf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eign policies,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estic polic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of sp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end: Chandragupta retires to become a monk, starves himself to dea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6CF-C3CD-400D-B67B-E54858B91FE8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Ashoka Maury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dson of Chandragup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high point of Mauryan Empire, r. 268-232 B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ed empire to include all of Indian subcontinent except for sou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rulership integrated Indian soci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154240"/>
            <a:ext cx="4038480" cy="342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A80-897D-4E9D-9150-F339655B7C6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ecline of the Mauryan Empir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crisis follows death of Asho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costs of bureaucracy, military not supported by tax reven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 devaluations of currency to pay sala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begin to abandon Mauryan Empi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ppears by 185 B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1668-C03B-4AD9-B6FD-1FE8517E611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egional Kingdom: Bactri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thwestern In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led by Greek-speaking descendants of Alexander’s campaig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se cultural activity accompanies active tra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37339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D34-6F06-4CFA-862F-9DCD8F39B284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23:37:38Z</dcterms:created>
  <dc:creator>Henry Abramson</dc:creator>
  <dc:description/>
  <dc:language>en-US</dc:language>
  <cp:lastModifiedBy>ripkensa</cp:lastModifiedBy>
  <dcterms:modified xsi:type="dcterms:W3CDTF">2009-11-24T22:54:24Z</dcterms:modified>
  <cp:revision>21</cp:revision>
  <dc:subject/>
  <dc:title>9. State, Society and the Quest for Salvation in India</dc:title>
</cp:coreProperties>
</file>